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DB83-3406-47F7-A0FA-871B378D4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D80D-9A6B-4967-9868-78062685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714F-4A54-438E-A938-3474E4D1F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73EB-C929-486A-A517-27C72F8F6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916F-6A62-446B-B887-2AA92416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AF31-C032-4998-9CF2-A2A385A9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C4AE-444D-486B-982D-C7E0A2B7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5E09-0987-434D-AB5F-71990066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B2D1-EA5A-4C51-BB37-E7335D2C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AA87-E500-4D5F-AC42-BB79926F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D345-B57B-4EA5-8CD4-BC374339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2C82-11D8-4FEE-A333-19B00C1E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9342-C452-4E95-AFFA-867F0D04F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ny-plp.wikispaces.com/" TargetMode="External"/><Relationship Id="rId3" Type="http://schemas.openxmlformats.org/officeDocument/2006/relationships/hyperlink" Target="http://wny-plp.wikispaces.com/" TargetMode="External"/><Relationship Id="rId4" Type="http://schemas.openxmlformats.org/officeDocument/2006/relationships/hyperlink" Target="http://del.icio.us/tag/wnyplp21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wny-plp.wikispaces.com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abpc21.org/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78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2814480"/>
            <a:ext cx="82296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werful Learning Practice 2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entury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ryl Nussbaum-B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Richard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ember 5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95280" y="228600"/>
            <a:ext cx="563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Getting the 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RIGHT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people </a:t>
            </a:r>
            <a:br>
              <a:rPr sz="3200"/>
            </a:b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on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the b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5638680"/>
            <a:ext cx="167652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209680" y="2044800"/>
            <a:ext cx="4267440" cy="32130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4038480" y="54864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Jim Collins, “Good to Grea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086600" y="2514600"/>
            <a:ext cx="205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You were hand selected carefully as teacher leade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447920" y="304920"/>
            <a:ext cx="655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he Schedu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5334120"/>
            <a:ext cx="10670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772400" y="0"/>
            <a:ext cx="13716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100800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ace-to-Face Meetings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Nov. 5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ay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lluminate Sessions </a:t>
            </a: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(2 pm – 4 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Module 1 (Intro to 21st Century teaching) Nov. 29, Dec.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Module 2 (Cool Tools): Jan. 30, Feb. 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Module 3 (It's All About the Learning):  Feb 26,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Module 4 (Virtual Learning Fair):  April  28,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Virtual Learning Community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Ong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5638680"/>
            <a:ext cx="17524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905120" y="258840"/>
            <a:ext cx="5562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380880"/>
            <a:ext cx="6705720" cy="64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Collaborative Tool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NY-PLP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i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Del.icio.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Ellumin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Twi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5638680"/>
            <a:ext cx="17524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1825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lanned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5638680"/>
            <a:ext cx="175284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914400"/>
            <a:ext cx="7924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Knowledge:</a:t>
            </a: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An understanding of the transfo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otential of Web 2.0 tools in a global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and context, and how those potentials can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realized in sch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Pedagogy: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An understanding of the shifting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literacies that the 21 Century demands and how th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literacies are being taught by trail-bla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teachers who are already using the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in their classro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905120" y="258840"/>
            <a:ext cx="5562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5638680"/>
            <a:ext cx="17524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762120"/>
            <a:ext cx="75438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Connections</a:t>
            </a: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:</a:t>
            </a:r>
            <a:r>
              <a:rPr b="1" i="1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The development of sustained professional learning networks for team members to begin experimenting and sharing with other team members and online colleagues from around the world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Sustainability: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The creation of long term plan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move the vision forward in participating districts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the end of the program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Capacity: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An increase in the abilities and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of individuals, teams and the community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manage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1522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lanned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905120" y="258840"/>
            <a:ext cx="5562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152280"/>
            <a:ext cx="6705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LC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onceptual Framework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5638680"/>
            <a:ext cx="17524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52480" y="190512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C conceptual framework can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1371600"/>
            <a:ext cx="754380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 solid foundation of collaboratively developed and widely shared vision, mission, values and goals that align with the 21</a:t>
            </a:r>
            <a:r>
              <a:rPr b="0" lang="en-US" sz="2800" spc="-1" strike="noStrike" baseline="30000">
                <a:solidFill>
                  <a:srgbClr val="bbe0e3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 Century learner’s nee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llaborative teams that work interdependently to achieve common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 focus on results as evidenced by a commitment to 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905120" y="258840"/>
            <a:ext cx="5562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380880"/>
            <a:ext cx="67057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Professional Learning Communiti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5638680"/>
            <a:ext cx="17524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2133720"/>
            <a:ext cx="6477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05120" y="1828800"/>
            <a:ext cx="66294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The driving engine of the collaborative culture of a PLC is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e team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. They work together in an ongoing effort to discover best practices and to expand their professional experti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LCs are our best hope for reculturing schools. We want to focus on shifting from a culture of teacher isolation to a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culture of deep and meaningful collaboration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095880" y="4876920"/>
            <a:ext cx="2400480" cy="180000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1522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rofessional Learning Communities</a:t>
            </a:r>
            <a:br>
              <a:rPr sz="32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mmunities of Continuous Improvement and Inqu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5638680"/>
            <a:ext cx="175284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144792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owerful Learning Practice  Team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2209680"/>
            <a:ext cx="7391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2362320"/>
            <a:ext cx="7086600" cy="38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Individually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Write at least 3-5 assumptions you have about how you will operate as a 21</a:t>
            </a:r>
            <a:r>
              <a:rPr b="1" lang="en-US" sz="2000" spc="-1" strike="noStrike" baseline="30000">
                <a:solidFill>
                  <a:srgbClr val="ffcc00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Century Learning team this year and any goals you have for the year as a team. 5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Place all the cards in the center of the table: Stack and shuff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In turn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ach team member picks a card to read aloud to the table. Engage in dialogue and discussion about the assumptions. 15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ttp://wnyplp.ning.co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NBEACH@COX.N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EBLOGGED@GMAIL.COM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ttp://wnyplp.ning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ttp://wny-plp.wikispaces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nbeach@cox.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blogged@gmail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kype: snbe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kype: willrich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5638680"/>
            <a:ext cx="175248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441440" y="1295280"/>
            <a:ext cx="3676680" cy="54104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5638680" y="198108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Our _x000b_Virtual Handou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57800" y="58672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 Credit: A socially networked student in an unplugged class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76320"/>
            <a:ext cx="8001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Powerful Learning Practice (PLP)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f2f Celeb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23880" y="76320"/>
            <a:ext cx="7391520" cy="70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re are you on the developmental continuum for 21st Century teaching and learning- on a  “know nothing” to “know everything” scale?               </a:t>
            </a:r>
            <a:r>
              <a:rPr b="1" lang="en-US" sz="1800" spc="-1" strike="noStrike">
                <a:solidFill>
                  <a:srgbClr val="ff6699"/>
                </a:solidFill>
                <a:latin typeface="Arial"/>
              </a:rPr>
              <a:t>(Please place your vote on cha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ewb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newcomer to cyberspace, Web 2.0 and/or social networking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plorer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lling to try a few new things, ask questions, and starting to gain an awareness around using  blogs, wikis, podcasts, and vidcasts in instruction. You have possibly joined a listserv and are sharing ideas with other teachers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th Finder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or your students have created a blogs, wiki, or podcast. Some of your teaching is delivered in a student centered, inquiry-based format. You are reading articles/books about how to use Web 2.0 tools with your students. You understand the term digital nativ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wer User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blog and teach others how to blog. You use flickr, RSS, del.icio.us, and a wiki regularly. You can give at least three traits of a netgener and confusion and chaos do not bother you anymore. You regularly use project/problem based teaching in your classroo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estern NY PLP Schools/District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-------------------------------------------------------------------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1066680"/>
          <a:ext cx="9144000" cy="64771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47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andolph CS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pringville Griff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ranklinville Cent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Iroquois Cent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ast Aurora UFSD 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ast Aurora UFSD 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ast Aurora UFSD 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heektowaga Cent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ioneer Cent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weet Home CS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Holland CS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Niagara Academ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Nic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lver Cre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righton 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righton 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Webster 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Webster 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Monroe Cross District (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753840" cy="771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7538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NY PLP </a:t>
            </a:r>
            <a:br>
              <a:rPr sz="2800"/>
            </a:b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Team Leaders</a:t>
            </a:r>
            <a:br>
              <a:rPr sz="36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-------------------------------------------------------------------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4036320" cy="2184120"/>
        </p:xfrm>
        <a:graphic>
          <a:graphicData uri="http://schemas.openxmlformats.org/drawingml/2006/table">
            <a:tbl>
              <a:tblPr/>
              <a:tblGrid>
                <a:gridCol w="4036320"/>
              </a:tblGrid>
              <a:tr h="218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ic Law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648320" y="1600200"/>
          <a:ext cx="4036320" cy="2184120"/>
        </p:xfrm>
        <a:graphic>
          <a:graphicData uri="http://schemas.openxmlformats.org/drawingml/2006/table">
            <a:tbl>
              <a:tblPr/>
              <a:tblGrid>
                <a:gridCol w="4036320"/>
              </a:tblGrid>
              <a:tr h="218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enda P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57200" y="3938760"/>
          <a:ext cx="4036320" cy="2185560"/>
        </p:xfrm>
        <a:graphic>
          <a:graphicData uri="http://schemas.openxmlformats.org/drawingml/2006/table">
            <a:tbl>
              <a:tblPr/>
              <a:tblGrid>
                <a:gridCol w="4036320"/>
              </a:tblGrid>
              <a:tr h="2185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enda P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304920" y="1219320"/>
          <a:ext cx="9144000" cy="716904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716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William Caldw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renda Pe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indy Crand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egina Beck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olleen Klimchu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James Hoagl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James Bodzi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teven Wr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amela Katterman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Jenifer Gilson</a:t>
                      </a:r>
                      <a:br>
                        <a:rPr sz="2000"/>
                      </a:b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ric Lawt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ushma Sztor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usan Al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Kathleen Gra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ob Tho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teven Schafheim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rin E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arb Goldamm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isa Cla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753840" cy="771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753840" cy="77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4267080" y="3156120"/>
          <a:ext cx="609480" cy="54756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rb Goldamm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NY PLP </a:t>
            </a:r>
            <a:br>
              <a:rPr sz="2800"/>
            </a:b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21</a:t>
            </a:r>
            <a:r>
              <a:rPr b="0" lang="en-US" sz="3600" spc="-1" strike="noStrike" baseline="30000">
                <a:solidFill>
                  <a:srgbClr val="33cc33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 Century Fellows</a:t>
            </a:r>
            <a:br>
              <a:rPr sz="36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-------------------------------------------------------------------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600200"/>
          <a:ext cx="4036320" cy="2184120"/>
        </p:xfrm>
        <a:graphic>
          <a:graphicData uri="http://schemas.openxmlformats.org/drawingml/2006/table">
            <a:tbl>
              <a:tblPr/>
              <a:tblGrid>
                <a:gridCol w="4036320"/>
              </a:tblGrid>
              <a:tr h="218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ic Law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648320" y="1600200"/>
          <a:ext cx="4036320" cy="2184120"/>
        </p:xfrm>
        <a:graphic>
          <a:graphicData uri="http://schemas.openxmlformats.org/drawingml/2006/table">
            <a:tbl>
              <a:tblPr/>
              <a:tblGrid>
                <a:gridCol w="4036320"/>
              </a:tblGrid>
              <a:tr h="218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enda P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457200" y="3938760"/>
          <a:ext cx="4036320" cy="2185560"/>
        </p:xfrm>
        <a:graphic>
          <a:graphicData uri="http://schemas.openxmlformats.org/drawingml/2006/table">
            <a:tbl>
              <a:tblPr/>
              <a:tblGrid>
                <a:gridCol w="4036320"/>
              </a:tblGrid>
              <a:tr h="2185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enda P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04920" y="1219320"/>
          <a:ext cx="9144000" cy="647676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47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ngela Stock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Kristen Marchio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usan Rothw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Michelle Ok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Mansel We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Donna Frym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Dave Mileh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Jeanne My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rian Blasz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armelita Bieni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Theresa G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Jeff Bar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aroyln K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Tim Clar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ick Weinber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Mark Car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heryl Fi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rian C. 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Tadge O'Brie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Doreen Pietrantoni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753840" cy="771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7538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523880" y="30492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owerful Learning Practice for Administrators and Teacher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1523880"/>
            <a:ext cx="182880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2209680"/>
            <a:ext cx="53316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523880"/>
            <a:ext cx="213372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81680" y="1523880"/>
            <a:ext cx="182880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95880" y="2209680"/>
            <a:ext cx="53352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523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2F- Lau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1905120"/>
            <a:ext cx="1143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05320" y="1905120"/>
            <a:ext cx="1143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1523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lu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238880" y="1523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1905120"/>
            <a:ext cx="1752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a sense of urgency, build community, whet appeti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1828800"/>
            <a:ext cx="1676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ve meetings where 50 + meet,  listen and then reflect in small group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24680" y="0"/>
            <a:ext cx="121932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5486400"/>
            <a:ext cx="9907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1905120"/>
            <a:ext cx="1828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LC where we deepen understanding, network, and share resour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3657600"/>
            <a:ext cx="72388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urpo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 virtual community designed to help participants gain an understanding of the transformative potential of Web 2.0 tools in a global perspective and context, and how those potentials can be translated into classroom practice in Western NY schoo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5638680"/>
            <a:ext cx="17524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447920" y="152388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10620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Building on Succes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5638680"/>
            <a:ext cx="16002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05120" y="1523880"/>
            <a:ext cx="609588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523880" y="1190160"/>
            <a:ext cx="7391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0 schools (teams of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Each team has a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0 Fellows to support th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 f2f meet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4 live curriculum s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going collaboration in V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re/Post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velopment of 3-5 year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106200"/>
            <a:ext cx="56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58000" y="0"/>
            <a:ext cx="1946160" cy="1990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95280" y="5638680"/>
            <a:ext cx="167652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09:45:50Z</dcterms:created>
  <dc:creator>Your User Name</dc:creator>
  <dc:description/>
  <dc:language>en-US</dc:language>
  <cp:lastModifiedBy>Sheryl Nussbaum-Beach</cp:lastModifiedBy>
  <dcterms:modified xsi:type="dcterms:W3CDTF">2007-11-05T19:25:02Z</dcterms:modified>
  <cp:revision>112</cp:revision>
  <dc:subject/>
  <dc:title>Slide 1</dc:title>
</cp:coreProperties>
</file>